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B1-06BB-4818-8C4D-1A1F10A3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639-AEA8-4CA9-8207-C53731C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1C3-2911-415C-BA5A-A972EE0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AF7-422E-412D-BD5C-B87F688D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E6E-822C-45E5-8BC7-98B5B2D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6CA-EF4F-4C1F-B35F-94A8C6F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FAF-713F-4174-84A0-EDD8E4A9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44F-40C1-43A9-A59C-7DA62EA8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227-4A2B-4B92-BA1C-B749898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FB5-C1D1-49AF-8915-A0BCF79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41E-6CC7-49DF-958E-3A43DD0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504-E7DC-455A-A9BA-1167325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17F-B91E-4705-A119-D03E3E1BD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1:47Z</dcterms:created>
  <dc:creator>INVES-S6600A</dc:creator>
  <dc:description/>
  <dc:language>en-US</dc:language>
  <cp:lastModifiedBy>INVES-S6600A</cp:lastModifiedBy>
  <dcterms:modified xsi:type="dcterms:W3CDTF">2010-11-23T14:02:04Z</dcterms:modified>
  <cp:revision>1</cp:revision>
  <dc:subject/>
  <dc:title>Diapositiva 1</dc:title>
</cp:coreProperties>
</file>